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641-31C9-495F-9E96-59D1C530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EAB-4494-45A6-BB79-A382BF16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48C-F1AC-47B8-8D64-C9BB2EBE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464-2A7A-4618-A6D3-AFE3EBBA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371-73AC-4667-9DE9-BDB9B838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2CA-093C-4E63-B397-8096073C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C88E-4BD9-4239-8586-D125666D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1DE-3353-40CA-AE82-A6BA3FA9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1E3-1E4F-450D-86AF-4CCFB3AE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95C-754B-4A4B-B5E2-B5FED161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1C3-0B96-43F6-9EF7-8C786115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FA3-7282-4330-A062-19171A5A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2600" y="-33480"/>
            <a:ext cx="9235800" cy="6975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A9EC-49C7-4B3D-9539-FFDE38573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org/wiki.cgi?WhatIsWiki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Wiki 101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&amp;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WikiSpaces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Greg Asman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 Rounded MT Bold"/>
                <a:hlinkClick r:id="rId1"/>
              </a:rPr>
              <a:t>What is a Wiki?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 Web Page or a Shared web document where many users can contribute to it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The Wikipedia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24285" r="0" b="0"/>
          <a:stretch/>
        </p:blipFill>
        <p:spPr>
          <a:xfrm>
            <a:off x="380880" y="1003320"/>
            <a:ext cx="8382240" cy="55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What Can I use a Wiki for?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o Create a Simple Web Page or Web Site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o create shared documents that are accessible on the web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o Create Collaborative Communities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o Build Knowledgebases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o Blog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o Podcast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Educational Wikis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http://educationalwikis.wikispaces.com/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How do I Wiki?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reate an Account(Already done for you!)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Join a Wiki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Log In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lick Edit to add/modify the content on a page!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o Make a New Page: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ype the Linking Tex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Highlight i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on the Link butto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Springboro School’s Wiki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(Thus Far!)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Springboro: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The district’s open Wiki; Will hold teacher’s web pages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SpringboroK12: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the District’s Closed Wiki primarily for student use and student-created Content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SpringboroPTO: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A Site for our PTOs to use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Springborojhstaff: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A Closed wiki for the JH’s staff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Wiki Documentation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Is located at the top of the Springboro Page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21:22:57Z</dcterms:created>
  <dc:creator>User</dc:creator>
  <dc:description/>
  <dc:language>en-US</dc:language>
  <cp:lastModifiedBy>gasman</cp:lastModifiedBy>
  <dcterms:modified xsi:type="dcterms:W3CDTF">2009-05-19T13:05:45Z</dcterms:modified>
  <cp:revision>52</cp:revision>
  <dc:subject/>
  <dc:title>Using Data to Improve Classroom Instruction</dc:title>
</cp:coreProperties>
</file>